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79463599"/>
        <c:axId val="82582218"/>
      </c:scatterChart>
      <c:valAx>
        <c:axId val="79463599"/>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82582218"/>
        <c:crossesAt val="0"/>
        <c:crossBetween val="midCat"/>
      </c:valAx>
      <c:valAx>
        <c:axId val="82582218"/>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79463599"/>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42949372"/>
        <c:axId val="82366798"/>
      </c:scatterChart>
      <c:valAx>
        <c:axId val="42949372"/>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82366798"/>
        <c:crossesAt val="0"/>
        <c:crossBetween val="midCat"/>
      </c:valAx>
      <c:valAx>
        <c:axId val="82366798"/>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42949372"/>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